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chimes.wav" ContentType="audio/x-wav"/>
  <Override PartName="/ppt/media/image5.png" ContentType="image/png"/>
  <Override PartName="/ppt/media/whoosh.wav" ContentType="audio/x-wav"/>
  <Override PartName="/ppt/media/image6.png" ContentType="image/png"/>
  <Override PartName="/ppt/media/bomb.wav" ContentType="audio/x-wav"/>
  <Override PartName="/ppt/media/camera.wav" ContentType="audio/x-wav"/>
  <Override PartName="/ppt/media/cashreg.wav" ContentType="audio/x-wav"/>
  <Override PartName="/ppt/media/laser.wav" ContentType="audio/x-wav"/>
  <Override PartName="/ppt/media/image4.png" ContentType="image/png"/>
  <Override PartName="/ppt/media/push.wav" ContentType="audio/x-wav"/>
  <Override PartName="/ppt/media/image9.png" ContentType="image/png"/>
  <Override PartName="/ppt/media/image8.png" ContentType="image/png"/>
  <Override PartName="/ppt/media/image10.png" ContentType="image/png"/>
  <Override PartName="/ppt/media/applause.wav" ContentType="audio/x-wav"/>
  <Override PartName="/ppt/media/breeze.wav" ContentType="audio/x-wav"/>
  <Override PartName="/ppt/media/image2.png" ContentType="image/png"/>
  <Override PartName="/ppt/media/image7.png" ContentType="image/png"/>
  <Override PartName="/ppt/media/click.wav" ContentType="audio/x-wav"/>
  <Override PartName="/ppt/media/image1.png" ContentType="image/png"/>
  <Override PartName="/ppt/media/arrow.wav" ContentType="audio/x-wav"/>
  <Override PartName="/ppt/media/coin.wav" ContentType="audio/x-wav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21EB-3A0B-44E8-A5EE-3AE178AD6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351E-9C18-4B00-8D6C-E5B767DD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70F4-61C8-4626-9784-92DD82C51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A56D-3A66-4413-87EC-68CD11E89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B00D-342F-426E-8CD3-1942BD7C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01AA-BD16-4BDB-BCE6-D6D4830A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7161-478C-4462-B6B5-3E7FAD31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62E5-E900-4AF8-B926-FDDE24ED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BDC3-E0ED-4FE2-BF66-43279904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5447-D565-4F95-8A93-CCB5A274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426A-E07E-4999-9D41-13887FD9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091C-5845-486E-B98D-6853BE8B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B4B2-ECD5-4127-A3AE-705C5AD68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87280" y="1413000"/>
            <a:ext cx="691380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Unidades de CD-ROM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pull dir="ld"/>
    <p:sndAc>
      <p:stSnd>
        <p:snd r:embed="rId2" name="coin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763640" y="3284640"/>
            <a:ext cx="6335640" cy="2881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258920" y="836640"/>
            <a:ext cx="6553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Unidad de cd en un portati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out"/>
    <p:sndAc>
      <p:stSnd>
        <p:snd r:embed="rId3" name="breez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268360" y="2997360"/>
            <a:ext cx="4535640" cy="3095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187280" y="907920"/>
            <a:ext cx="64198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rtes de una unidad de cd-ro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vert"/>
    <p:sndAc>
      <p:stSnd>
        <p:snd r:embed="rId3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403280" y="3141720"/>
            <a:ext cx="6193080" cy="3095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1403280" y="1052640"/>
            <a:ext cx="5761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Unidad de cd-ro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out"/>
    <p:sndAc>
      <p:stSnd>
        <p:snd r:embed="rId3" name="applaus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3141720"/>
            <a:ext cx="6409080" cy="3240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1835280" y="1268280"/>
            <a:ext cx="518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uerto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horz"/>
    <p:sndAc>
      <p:stSnd>
        <p:snd r:embed="rId3" name="push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042920" y="2276640"/>
            <a:ext cx="6481800" cy="165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Unidades de cd-ro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  <p:sndAc>
      <p:stSnd>
        <p:snd r:embed="rId2" name="arrow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619280" y="2997360"/>
            <a:ext cx="5473800" cy="3384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619280" y="620640"/>
            <a:ext cx="612144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UNIDAD DE CD-RO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  <p:sndAc>
      <p:stSnd>
        <p:snd r:embed="rId3" name="lase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050920" y="3500280"/>
            <a:ext cx="4537080" cy="2360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826920" y="1052640"/>
            <a:ext cx="717084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ISPOSITIVO DE LA UNIDAD DE CD-ROM</a:t>
            </a:r>
            <a:endParaRPr b="0" lang="en-US" sz="1800" spc="1" strike="noStrike">
              <a:ln w="0">
                <a:noFill/>
              </a:ln>
              <a:solidFill>
                <a:srgbClr val="33cc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out"/>
    <p:sndAc>
      <p:stSnd>
        <p:snd r:embed="rId3" name="cashreg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187280" y="2349000"/>
            <a:ext cx="726624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D-ROM El CD-ROM es un estándar de almacenamiento de archivos informáticos en disco compacto y se inserta en un lector de CD-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476360" y="404640"/>
            <a:ext cx="5904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unidades de cd- rom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mb dir="horz"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835280" y="3068640"/>
            <a:ext cx="5400720" cy="3313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971640" y="476280"/>
            <a:ext cx="705636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UIDADOS QUE SE DEBEN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ENER CON  LA UNIDAD DE CD-RO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700280"/>
            <a:ext cx="734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y unidades que permiten escribir discos compactos y, si el soporte lo permite,  las unidades CD-RW  que además de leer y reescribir discos CD-RW. En la actualidad también es frecuente encontrar en los ordenadores unidades DVD, que permiten leer, y algunas también escribi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547640" y="620640"/>
            <a:ext cx="633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cc99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UNIDADES DE CD ROM</a:t>
            </a:r>
            <a:endParaRPr b="0" lang="en-US" sz="2400" spc="1" strike="noStrike">
              <a:ln w="9360">
                <a:solidFill>
                  <a:srgbClr val="ff99cc"/>
                </a:solidFill>
                <a:miter/>
              </a:ln>
              <a:solidFill>
                <a:srgbClr val="cc99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ver dir="r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042920" y="549360"/>
            <a:ext cx="62658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xisten tres tipo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619280" y="2924280"/>
            <a:ext cx="482436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D-RO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D-WRIT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V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horz"/>
    <p:sndAc>
      <p:stSnd>
        <p:snd r:embed="rId2" name="bomb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258920" y="2565360"/>
            <a:ext cx="7200720" cy="3560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1042920" y="692280"/>
            <a:ext cx="69138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UNIDADES DE DC-ROM</a:t>
            </a:r>
            <a:endParaRPr b="0" lang="en-US" sz="2400" spc="1" strike="noStrike">
              <a:ln w="12600">
                <a:solidFill>
                  <a:srgbClr val="3366ff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cover dir="ld"/>
    <p:sndAc>
      <p:stSnd>
        <p:snd r:embed="rId3" name="click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D-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826920" y="1916280"/>
            <a:ext cx="7417080" cy="4537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1116000" y="765000"/>
            <a:ext cx="6696000" cy="83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>
                    <a:alpha val="95000"/>
                  </a:srgbClr>
                </a:solidFill>
                <a:latin typeface="Arial Black"/>
              </a:rPr>
              <a:t>DISCOS DE CD  R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>
                  <a:alpha val="95000"/>
                </a:srgbClr>
              </a:solidFill>
              <a:latin typeface="Arial Black"/>
              <a:ea typeface="Arial Black"/>
            </a:endParaRPr>
          </a:p>
        </p:txBody>
      </p:sp>
    </p:spTree>
  </p:cSld>
  <p:transition spd="med">
    <p:checker dir="horz"/>
    <p:sndAc>
      <p:stSnd>
        <p:snd r:embed="rId3" name="cashreg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9T22:56:09Z</dcterms:created>
  <dc:creator>personal</dc:creator>
  <dc:description/>
  <dc:language>en-US</dc:language>
  <cp:lastModifiedBy>personal</cp:lastModifiedBy>
  <dcterms:modified xsi:type="dcterms:W3CDTF">2005-11-02T21:24:36Z</dcterms:modified>
  <cp:revision>7</cp:revision>
  <dc:subject/>
  <dc:title>.</dc:title>
</cp:coreProperties>
</file>